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143-B397-4C71-A0B1-9C335EAD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753-899F-49BA-B996-4666AF01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97A-3232-45F8-9C9D-0E8BD59B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294-6516-4CC6-8885-EEBF477D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5F353-ADE9-4814-87E7-2F6E9B2A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9A59C-BBDE-4BD0-B8A0-D4E8A49C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D8607-B206-415E-8DF3-45D7ED12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07B83-B110-4065-8963-DBB1BDF3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F7368-AED1-481F-BDE1-7AD80492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EA22E-E50F-4E24-8098-39ADA062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FE473-25FA-4F05-B054-E711C3A8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6A7-96B5-4DBE-A543-28BF49B7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FE693-F66E-4727-A516-AAA81AF5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82031-6473-451B-8191-60F1676C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E5464-D908-43D5-BCB3-777E7347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85869-9EDB-4B12-8DA3-C9611AB9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1179D-E584-4B5A-8969-E3E1385C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368-9AFD-4922-AF8F-08D22E24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F87-AAEB-4EDE-B6B5-44385036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FA6-B141-4F88-8CFA-65AC2DB4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878-2FE8-44E6-B5E0-A8326274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0AA-268C-4363-B4A2-2F2DDBC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BE6-6933-48DD-BA71-CE9A71FA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C9B-D181-4B83-8213-05C675E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7E16-6EBE-46AC-9B90-DBE37761B5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B751-8162-4830-8BAD-B48BC0421F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commons.wikimedia.org/wiki/File:Miguel_de_Cervantes_lithography.jpg" TargetMode="External"/><Relationship Id="rId3" Type="http://schemas.openxmlformats.org/officeDocument/2006/relationships/hyperlink" Target="http://commons.wikimedia.org/wiki/File:Miguel_de_Cervantes_lithography.jpg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on Quijote de la mancha:</a:t>
            </a:r>
            <a:br>
              <a:rPr sz="1800"/>
            </a:b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Información de la historia, la importancia, y los temas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350040" cy="4762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43800" y="464832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raveladventures.org/.../madridplazas06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Después de 5 años en captividad, regresó a España en 1580.  Se casó con Catalina de Salazar en 1584 y tenían una hija.  Se publicó su primera novela, La Galatea. 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a representación de La Galea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76920" cy="2786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28800" y="53341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quijote.tv/vidaV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Cervantes trabajaba como recaudador y en otros trabajos también para ganar dinero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8C4-86CF-4E92-8865-4DC49B4CA32A}" type="slidenum">
              <a:rPr b="0" lang="en-US" sz="3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857840" cy="5705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4267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commons.wikimedia.org/wiki/File:Miguel_de_Cer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..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Cervantes fue encarcelado en Sevilla a causa de unos problemas con el dinero en su trabajo como recaudador.  Se dice que empezó a escribir El Quijote en la cárcel. 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a de Sevil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14800" y="6248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usm.maine.edu/~maps/exhibit5/SPE25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ervantes escribió la primera parte de Don Quijote en 1605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3191040" cy="4886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562720" y="39625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809880"/>
            <a:ext cx="3352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irbacon.org/graphics/titlepagedq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Don Quijote/Quixote era un hidalgo viejo quien se volvió loco por leer tantos libros de caballerías y quería luchar contra y salvar el mundo de lo malo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3962520" cy="570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7160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ritannica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on Quixote se puso muy popular y famoso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90720" y="4572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files.art.com/images/-/William-Nicholson-P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vantes escribió la segunda parte de Don Quijote en 1615 después de y para responder a una segunda parte escrito por otro au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4919760" cy="7142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76520" y="4572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ne.es/productos/BDH/sec1a/img/007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s temas de Don Quixot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ealidad y la fi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libertad religi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libertad intelec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amor y la libertad de escoger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humanismo/el deseo de cambiar el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sociedad y su estructura con la noble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literatura y la cens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Don Quixote vivió en la región de La Mancha donde habia muchos molinos de viento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2193480"/>
            <a:ext cx="81532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43200" y="24573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3733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962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photography.nationalgeographic.com/staticfile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Unas escenas famosas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leva la armadura de su bisabuelo para ir de aven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tiene un caballo, Rocinante, que es un roc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e promete una isla a Sancho, su escud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es un huésped en la venta que es un castillo en su 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ucha contra los arrieros por tocar sus ar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reza en el corral porque la capilla esta “en ruina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se arma caballero andante por el vent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dice que los caballeros andantes nunca se quej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come truchuelas y pan ver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ucha por Dios y el amor de Dulcin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ucha contra los molinos de v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ura quema los libros de D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piensa que encuentra “el yelmo de mambrino” con el bárb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ladrón roba el asno de Sanch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hace una penitencia en la Sierra Mor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muere en c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España durante los siglos 15 y 16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“El siglo de oro” en Españ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bela y Ferdinando se casa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1469, unificando la Españ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nuevo mundo se descubrió por Cristobol Colón empezand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9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la gran época de impe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ol con sus colonias americanas (México, Centroamérica, Sudaméric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, empieza a ser difícil a controlar tantas tierras y gobernar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50496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6920" y="502920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escubreamerica.files.wordpress.com/2007/07/ columbus_taking_possession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Muchos monumentos y estatuas se han hecho de Don Quijote, Sancho Panza su escudero, y Cervantes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6172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content.answers.com/wikipedia/commons/thumb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6095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gregoryreade.com/.../donq_b_600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91120" y="21337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uchos artistas famosos han pintado pinturas de ellos, también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9000" cy="4390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898800" y="1371600"/>
            <a:ext cx="5245200" cy="6350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495680" y="571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ww.imagekind.com/.../Picasso_Don_Quixote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on Quijote es una obra conocida por unos expertos como la primera novela moderna y por unos, la mejor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33526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3097080" cy="4262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666880" y="4952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donquijote.org/.../photos/donquixote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.   Cervantes, Miguel,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on 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(translated by Edith Grossman), 2003, Harper Collins Publisher, New Y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.   www. en.wikipedia.org/wiki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line-literature.com/cervantes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4.   www.sparknotes.com/lit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.   www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quij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org/vmuseum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. school.discoveryeducation.com/lessonplans/programs/greatbooks-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yberspain.com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/year/inde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reyes católicos conquistaron la tierra árabe de los mo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itad del mundo conocido era de España a este pu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6840" y="1347840"/>
            <a:ext cx="3762360" cy="2867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434340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ncolncs.org/5-6?Studies/images/armada/spain1210a.g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spaña, se empieza el sistema oficial de “defender” la religión católic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Inquisición, con sus caractarís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intolerancia y limpieza de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609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2476800" cy="3784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105520" y="54100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humgersbrides.com/images/inq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 vida de Cervant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072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1905120" cy="2152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76720" y="5334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aiwandna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Cervantes nació en 1547 en Alcalá de Henares, Españ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90920" y="2386080"/>
            <a:ext cx="5257800" cy="2765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3880" y="556272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14800" y="3189240"/>
            <a:ext cx="914400" cy="480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9528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ecinto_murall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uel de Cervantes era uno de siete her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ió en Madrid por muchos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padre fue ciruj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jó por España con su padre en su traba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ervantes se insribió en la militaria en el ejército español y luchó en la famosa batalla de Lepanto en 1571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380988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a-2.web.britannica.com/eb-media/76/115476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238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Cervantes salió para España, pero en camino/en ruta se puso prisionero/esclavo por 5 años en Algiers, África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120" y="6248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heritage-history.com /books/fraser/seafights/zpage126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5:25:55Z</dcterms:created>
  <dc:creator>jensenk</dc:creator>
  <dc:description/>
  <dc:language>en-US</dc:language>
  <cp:lastModifiedBy>Jensen</cp:lastModifiedBy>
  <dcterms:modified xsi:type="dcterms:W3CDTF">2009-03-14T23:04:07Z</dcterms:modified>
  <cp:revision>131</cp:revision>
  <dc:subject/>
  <dc:title>Don Quijote de la mancha</dc:title>
</cp:coreProperties>
</file>